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2861-8775-4273-A34F-7975A232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B15-5B05-43BB-AF79-916AC841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1A2-C582-4B39-802F-EAB00182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2A2-C356-424D-A14E-09FDE374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0494-0EB4-4155-A03E-9708628F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103C-EB81-49C6-9BD3-8831DAA9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BCFE-C244-4F96-A2FB-F85B1BEA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5634-2EFE-41AA-8E30-02D21F23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B28D-233A-40E4-9AF9-2FDBA7BD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7A25-CB95-4F8F-BF20-D08AF562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2ABA-F0EA-4F37-B973-1A97060B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EC6-E15D-4078-B5D5-27C523E4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9954-47A5-458F-898D-19A322AB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43B8-1BB3-45D3-B4F2-AACF9D96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B0B0-D437-422C-BF32-11C7554D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E7A8-B895-4F71-9102-48EFD91A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98A3-8479-42A2-B527-BEE5E496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F036-9413-4852-B297-6713C44A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B47-EEEE-4D56-BC7F-D44D4959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2B3-B4BD-443A-9971-FC8A7F53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2A0-5968-44FE-8362-D43BAA1D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5FB-9EBB-4FA3-BD08-9D88327E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69FF-D386-48FE-B479-0520F7AE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333-0829-413F-A47B-69518AAA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1E98-F27A-4CA4-AF9F-310B7B26E6B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F325-5C40-4B1E-8F6B-79F497C081A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ense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83664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hen we got to the theatre, they </a:t>
            </a:r>
            <a:r>
              <a:rPr b="0" lang="en-US" sz="4800" spc="-1" strike="noStrike">
                <a:solidFill>
                  <a:srgbClr val="da0000"/>
                </a:solidFill>
                <a:latin typeface="Arial Black"/>
              </a:rPr>
              <a:t>had sold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all the ticket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1240" y="3213000"/>
            <a:ext cx="7196400" cy="2702520"/>
            <a:chOff x="471240" y="3213000"/>
            <a:chExt cx="7196400" cy="2702520"/>
          </a:xfrm>
        </p:grpSpPr>
        <p:sp>
          <p:nvSpPr>
            <p:cNvPr id="83" name=""/>
            <p:cNvSpPr/>
            <p:nvPr/>
          </p:nvSpPr>
          <p:spPr>
            <a:xfrm>
              <a:off x="539640" y="4508280"/>
              <a:ext cx="7128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32000" y="4076640"/>
              <a:ext cx="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4076640"/>
              <a:ext cx="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32720" y="4147920"/>
              <a:ext cx="0" cy="36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1240" y="4724280"/>
              <a:ext cx="20581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ad sol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48000" y="4724280"/>
              <a:ext cx="2448000" cy="1191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got to the theatr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02520" y="4653000"/>
              <a:ext cx="11455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ow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10960" y="3213000"/>
              <a:ext cx="15523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过去的过去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00000" y="765000"/>
            <a:ext cx="7653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8.When I got to the cinema, the film____ for five minut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d began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as on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s begun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been on sho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522936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620640"/>
            <a:ext cx="8048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9.Class ___ by the time I ____ there, so I took a seat in the bac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as begun, get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ad begun, g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. began, got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. begins, g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64500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179280"/>
            <a:ext cx="813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10.Helen ___ her key in the office so she had to wait until her husband___ hom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s left, comes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left, had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d left, came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left, would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458136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765000"/>
            <a:ext cx="8335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1.The pen which I ___ I  ____ is on my desk, right under my nos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ink, lost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ought, had l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. think, had lost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. thought, have l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371628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692280"/>
            <a:ext cx="8193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y asked me to have a drink with them. I said that it was at least ten years since I ____ a good drin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enjo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enjo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3068640"/>
            <a:ext cx="684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0920" y="620640"/>
            <a:ext cx="8408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How long __ each other before they ___ mar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For about a ye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. have they known;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did they know; were going to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do they know; are going to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they known; g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5445000"/>
            <a:ext cx="684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55640" y="1341360"/>
            <a:ext cx="8085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hen Jack arrived he learned Mary ___ for almost an hou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g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t of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lef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aw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013360"/>
            <a:ext cx="68400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98100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---Did you tell your brother where she ___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---Yes, but I didn’t tell him she ___ until next we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A. has gone; wo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B. went; do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. had been; would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D. had gone; would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797360"/>
            <a:ext cx="68400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836640"/>
            <a:ext cx="82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is wife ___ to catch the first train but she was too la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o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ould ho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2637000"/>
            <a:ext cx="68436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653000"/>
            <a:ext cx="8551800" cy="1191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had hope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意为“原希望”，常用于这一结构的动词有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think, want, plan, suppose, intend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2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1916280"/>
            <a:ext cx="783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过去完成时是一种与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</a:rPr>
              <a:t>过去时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相比较而存在的时态，用以表示“过去的过去”的动作或状态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773360"/>
            <a:ext cx="848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1.When we _____(arrive) at the theatre, the play ____(already start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365720"/>
            <a:ext cx="575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arrived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had already star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60480"/>
            <a:ext cx="82645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2.The police found that the house ___and a lot of things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. has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been 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had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has been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been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44500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981000"/>
            <a:ext cx="7940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3.Tom didn't go to hear the singer because he___ him.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eard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ould hea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s heard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he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44500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179280"/>
            <a:ext cx="8353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4.---Why didn't you come to the part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-----I___ to come, but one of my friends came to see me just th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. wanted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. was want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had wan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had been wan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30064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333360"/>
            <a:ext cx="7201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5.Sorry,I've eaten up the food. I___ that     he  wouldn't be bac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ink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as thin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ad thou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thou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472428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1840" y="1125360"/>
            <a:ext cx="8085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6.When we got to his home, we learned 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___ for almost an hou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nt   B. had gone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d been awa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s g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7664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476280"/>
            <a:ext cx="876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7.---Did you meet John here at the universit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----No, we___ when I started colleg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ave already met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lready m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would meet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had already m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58972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31:57Z</dcterms:created>
  <dc:creator>Legend User</dc:creator>
  <dc:description/>
  <dc:language>en-US</dc:language>
  <cp:lastModifiedBy>Legend User</cp:lastModifiedBy>
  <dcterms:modified xsi:type="dcterms:W3CDTF">2002-12-10T13:06:31Z</dcterms:modified>
  <cp:revision>18</cp:revision>
  <dc:subject/>
  <dc:title>幻灯片 1</dc:title>
</cp:coreProperties>
</file>